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A0AF-7B34-4D7E-8D47-E32DC6A6B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4BAC-5655-49CC-98DA-EDA43C4E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D84502-504D-4326-938B-B807D918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A79491-1F55-4F09-80EB-E994816A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38400A-9A77-41F1-AF04-5DD9FF8F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3068F4-3B14-4104-BFFA-6A6F838F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F3A346-A3BB-44D9-B96D-D23FE42A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2D2DD-9E0E-44D4-ACCF-6BB906E8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50A03-59A9-4423-9394-1F61AB5C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9FFD29-1CD4-429B-8CAC-81F1D0FC9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97FE4D-CAB5-4EC7-9534-9F2675CF5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BA40-620A-4C5A-90FB-1344735E7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63F5-1217-442F-ABDB-9F6A1EC2A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8386-A805-4312-9325-B6126AB5B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6E863-9E30-4437-B3F3-AD0DDC8F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416E-74FF-42B4-B8EA-66CA3D43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C273-303B-4D2D-8FF3-90F0CE0A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5436-E0DF-4B1C-8350-70960887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83EC-63DB-458F-BA30-E86FEB5D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FA22E-29CF-4F66-9CAD-2C151166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2DBF-1FF9-42A3-BD83-55603483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B0E1-CAC6-4226-983B-BD899E27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42AED-EFF4-4758-9491-3291C7F6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A5D0C-23D0-4DE6-BA37-06798EF8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2D79-9B34-4FDA-9CC0-2A2D4ABF1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B746E-6627-4998-9226-137720553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B0106-5427-42A7-A935-5B5D60744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30CE7-A7C0-4956-99C9-5B9E7378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BE29E-4DF3-4AEF-AF39-8077CC1B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9BDDB-A9EE-4409-8232-A31491D4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CF2E3-5E7B-4D8E-AA87-E1408567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8E54-D7D0-447B-BA4F-D8F1D395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3094B-075F-4984-A55F-19F234F0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C7E7D-714B-49F9-AAC8-F4AF0D20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1AE7B-8B0B-4FBE-A7FD-865C6652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29D5C-BC6A-4CFB-994B-1636B8BF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D1D0E-8E71-4FD5-9E82-E0C834D9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A560E-B32C-4A34-BEA2-E97A3831D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1CA70-88C9-4FC2-A4CA-67D9BC7A6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0AC10-C4D3-48C7-8179-F34D24953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2D0CE-DF1C-477A-9B0D-063402DA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4FA33-B27A-4CAA-B0D3-C5959C47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AA6B-BCDA-45AE-8885-D233E56D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E5F74-45F2-4C68-A427-45EE0F03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FC039-BD7F-4D9F-B997-B84FE940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E7E8B-B47A-49D1-A493-F3395CF7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C82D6-90A4-4208-A429-993C481E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46127-131B-4FC3-B92F-E7CAF247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8B735-5D78-4521-8ED7-A62CD216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0A8B1-5BF7-4CE0-8F75-D37530B5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1DF81-7242-4E91-BF8E-E94AE3284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59B75-E879-46E0-BD0A-2712F6192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C2671-E8DA-44C9-8C3C-A19470118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B876-35B5-465C-A999-6A4FCA9D9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758BE-74E4-4546-B091-A01AA78C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46321-860B-4CE5-B21B-4D9CEE75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81166-5063-4B13-8A65-FD9C459B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F61EE-2026-4802-8648-D4D73AAD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C9A5B-1A0C-4944-B8F5-18EBF341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AA62F-33B9-4F37-A6E9-388E7E20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9B468-FCF4-4D7D-98B5-B1D8142C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28225-FD81-4DA4-ACC0-AE826C57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3E6DB-E9F0-4E55-943F-254F9142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00BD2-B8C9-4506-8A28-637206E0A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BE4D-8896-4391-A537-2CACCD01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6512D-23E9-414D-98BB-70613960C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F2F7B-F4F7-4324-A8E0-EDCCD14ED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3D43E-BD92-43D6-9A29-98346BE3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5CBE4-30CD-44B5-ABD8-54966623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0E304-EEEB-4547-9A62-E6355004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0E38B-823E-417B-A4EE-C9F6AFFF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23443-72C1-49E4-BB50-FE0133B5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029D5-F8D7-4270-AEB4-097DCA45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731B4-DA11-4495-9CF2-D7EA5CF3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332AF-D835-48BE-BC63-062BCA01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69E4-1260-43CD-B482-B46EBE3C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7B734-9C0C-4BEC-9156-C680A0E8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C2F31-4390-4206-A893-261ECE9DF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89E70-042B-4CD4-943C-0C368E31C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EEC26-D4BC-4FC2-BE52-FC176871A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7F8C3-6C04-46A3-A45F-1036D851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9E5FC-3649-4BED-8A53-0244F640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DEF4F-522F-45C5-BA61-61A81769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BC5FB-0061-4A38-8DA1-82422A08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60C8C-ADB7-4D14-8868-73033786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4E6F1-C442-4CEC-ABE1-7A0DB844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468A-E250-47B1-B2D1-DDFFA828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7D271-7832-4C73-9E09-DF5E37C7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F40A9-A94C-401A-98CF-3532A628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71083-1BC0-478C-93AE-AF5745B6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104DF-CDB4-4C5E-882F-8FF16F6D4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033ED-533A-41F2-8AFF-DB29E5263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EE5EA-1A17-491F-8131-BF08B1520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02077-85F8-4A06-8DC4-00748D36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68B43-CDC0-48C0-AF4D-128A734BC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C6BA5-C70C-4CEA-A864-D5B0DDBC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F8F6B-DB78-4253-87AC-8C76957C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A96A-711A-4393-8F0B-17E1AC9C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28BA4-A86A-40C3-A2B4-15241E57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4516D-DE4B-477B-B64D-3776BAAA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27E45-BA2E-4032-AEBF-4114146D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6D902-8572-41D7-B70B-BC3C952B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D13F1-579A-4CD0-8A8F-48675EAD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2D0AA-0C6F-44AC-B4E9-E62AC440F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C8A2D-02A2-4A60-B6DF-F422EDE91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A1390E-870E-4D4E-9A62-208F54326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F18343-2771-48AD-ABF4-60A3EC6E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6B3DC3-0B7B-463C-B477-40046960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1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2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3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4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" name=""/>
                <p:cNvSpPr/>
                <p:nvPr/>
              </p:nvSpPr>
              <p:spPr>
                <a:xfrm>
                  <a:off x="5760" y="67122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6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7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9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0" name="Chevron 11"/>
              <p:cNvSpPr/>
              <p:nvPr/>
            </p:nvSpPr>
            <p:spPr>
              <a:xfrm flipH="1">
                <a:off x="864072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1" name="Chevron 12"/>
              <p:cNvSpPr/>
              <p:nvPr/>
            </p:nvSpPr>
            <p:spPr>
              <a:xfrm flipH="1">
                <a:off x="8767080" y="657180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2" name="Chevron 13"/>
              <p:cNvSpPr/>
              <p:nvPr/>
            </p:nvSpPr>
            <p:spPr>
              <a:xfrm flipH="1">
                <a:off x="889416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F8F0-A9E6-4AA4-AC1D-0E15F7B36A4E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b9"/>
            </a:gs>
            <a:gs pos="100000">
              <a:srgbClr val="c2c2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55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56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57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58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" name=""/>
                <p:cNvSpPr/>
                <p:nvPr/>
              </p:nvSpPr>
              <p:spPr>
                <a:xfrm>
                  <a:off x="5760" y="67122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60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61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63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64" name="Chevron 11"/>
              <p:cNvSpPr/>
              <p:nvPr/>
            </p:nvSpPr>
            <p:spPr>
              <a:xfrm flipH="1">
                <a:off x="864072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65" name="Chevron 12"/>
              <p:cNvSpPr/>
              <p:nvPr/>
            </p:nvSpPr>
            <p:spPr>
              <a:xfrm flipH="1">
                <a:off x="8767080" y="657180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66" name="Chevron 13"/>
              <p:cNvSpPr/>
              <p:nvPr/>
            </p:nvSpPr>
            <p:spPr>
              <a:xfrm flipH="1">
                <a:off x="889416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EBFB-12EB-491B-A919-C0DB5F7BAC21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109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110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111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112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" name=""/>
                <p:cNvSpPr/>
                <p:nvPr/>
              </p:nvSpPr>
              <p:spPr>
                <a:xfrm>
                  <a:off x="5760" y="67122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114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115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117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18" name="Chevron 11"/>
              <p:cNvSpPr/>
              <p:nvPr/>
            </p:nvSpPr>
            <p:spPr>
              <a:xfrm flipH="1">
                <a:off x="864072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19" name="Chevron 12"/>
              <p:cNvSpPr/>
              <p:nvPr/>
            </p:nvSpPr>
            <p:spPr>
              <a:xfrm flipH="1">
                <a:off x="8767080" y="657180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20" name="Chevron 13"/>
              <p:cNvSpPr/>
              <p:nvPr/>
            </p:nvSpPr>
            <p:spPr>
              <a:xfrm flipH="1">
                <a:off x="889416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grpSp>
        <p:nvGrpSpPr>
          <p:cNvPr id="121" name="Group 23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122" name="Chevron 9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23" name="Rectangle 22"/>
            <p:cNvSpPr/>
            <p:nvPr/>
          </p:nvSpPr>
          <p:spPr>
            <a:xfrm>
              <a:off x="2208240" y="1395360"/>
              <a:ext cx="6428880" cy="1800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309F-02AE-4969-A159-7CB3CE96119A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b9"/>
            </a:gs>
            <a:gs pos="100000">
              <a:srgbClr val="c2c2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166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167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168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169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5760" y="67122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171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172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174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75" name="Chevron 11"/>
              <p:cNvSpPr/>
              <p:nvPr/>
            </p:nvSpPr>
            <p:spPr>
              <a:xfrm flipH="1">
                <a:off x="864072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76" name="Chevron 12"/>
              <p:cNvSpPr/>
              <p:nvPr/>
            </p:nvSpPr>
            <p:spPr>
              <a:xfrm flipH="1">
                <a:off x="8767080" y="657180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77" name="Chevron 13"/>
              <p:cNvSpPr/>
              <p:nvPr/>
            </p:nvSpPr>
            <p:spPr>
              <a:xfrm flipH="1">
                <a:off x="889416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DD3C-55ED-4ADF-BD35-D2460BFD7E50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20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221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222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223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4" name=""/>
                <p:cNvSpPr/>
                <p:nvPr/>
              </p:nvSpPr>
              <p:spPr>
                <a:xfrm>
                  <a:off x="5760" y="67122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225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226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228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229" name="Chevron 11"/>
              <p:cNvSpPr/>
              <p:nvPr/>
            </p:nvSpPr>
            <p:spPr>
              <a:xfrm flipH="1">
                <a:off x="864072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30" name="Chevron 12"/>
              <p:cNvSpPr/>
              <p:nvPr/>
            </p:nvSpPr>
            <p:spPr>
              <a:xfrm flipH="1">
                <a:off x="8767080" y="657180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31" name="Chevron 13"/>
              <p:cNvSpPr/>
              <p:nvPr/>
            </p:nvSpPr>
            <p:spPr>
              <a:xfrm flipH="1">
                <a:off x="889416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grpSp>
        <p:nvGrpSpPr>
          <p:cNvPr id="232" name="Group 7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233" name="Chevron 8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34" name="Rectangle 9"/>
            <p:cNvSpPr/>
            <p:nvPr/>
          </p:nvSpPr>
          <p:spPr>
            <a:xfrm>
              <a:off x="2208240" y="1395360"/>
              <a:ext cx="6428880" cy="1800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C439-F6A8-4E03-8788-F4AB9269CA31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77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278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279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280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1" name=""/>
                <p:cNvSpPr/>
                <p:nvPr/>
              </p:nvSpPr>
              <p:spPr>
                <a:xfrm>
                  <a:off x="5760" y="67122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282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283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4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285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286" name="Chevron 11"/>
              <p:cNvSpPr/>
              <p:nvPr/>
            </p:nvSpPr>
            <p:spPr>
              <a:xfrm flipH="1">
                <a:off x="864072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87" name="Chevron 12"/>
              <p:cNvSpPr/>
              <p:nvPr/>
            </p:nvSpPr>
            <p:spPr>
              <a:xfrm flipH="1">
                <a:off x="8767080" y="657180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88" name="Chevron 13"/>
              <p:cNvSpPr/>
              <p:nvPr/>
            </p:nvSpPr>
            <p:spPr>
              <a:xfrm flipH="1">
                <a:off x="889416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grpSp>
        <p:nvGrpSpPr>
          <p:cNvPr id="289" name="Group 9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290" name="Chevron 10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91" name="Rectangle 11"/>
            <p:cNvSpPr/>
            <p:nvPr/>
          </p:nvSpPr>
          <p:spPr>
            <a:xfrm>
              <a:off x="2208240" y="1395360"/>
              <a:ext cx="6428880" cy="1800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6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7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8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1EF1-E0F2-4E13-9312-4FA357FFC580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34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335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336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337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8" name=""/>
                <p:cNvSpPr/>
                <p:nvPr/>
              </p:nvSpPr>
              <p:spPr>
                <a:xfrm>
                  <a:off x="5760" y="67122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339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340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342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343" name="Chevron 11"/>
              <p:cNvSpPr/>
              <p:nvPr/>
            </p:nvSpPr>
            <p:spPr>
              <a:xfrm flipH="1">
                <a:off x="864072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344" name="Chevron 12"/>
              <p:cNvSpPr/>
              <p:nvPr/>
            </p:nvSpPr>
            <p:spPr>
              <a:xfrm flipH="1">
                <a:off x="8767080" y="657180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345" name="Chevron 13"/>
              <p:cNvSpPr/>
              <p:nvPr/>
            </p:nvSpPr>
            <p:spPr>
              <a:xfrm flipH="1">
                <a:off x="889416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grpSp>
        <p:nvGrpSpPr>
          <p:cNvPr id="346" name="Group 5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347" name="Chevron 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348" name="Rectangle 7"/>
            <p:cNvSpPr/>
            <p:nvPr/>
          </p:nvSpPr>
          <p:spPr>
            <a:xfrm>
              <a:off x="2208240" y="1395360"/>
              <a:ext cx="6428880" cy="1800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9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0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1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A99E-1DA8-4F3D-9B1F-D016762D2652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91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392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393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394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5" name=""/>
                <p:cNvSpPr/>
                <p:nvPr/>
              </p:nvSpPr>
              <p:spPr>
                <a:xfrm>
                  <a:off x="5760" y="67122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396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397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8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399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400" name="Chevron 11"/>
              <p:cNvSpPr/>
              <p:nvPr/>
            </p:nvSpPr>
            <p:spPr>
              <a:xfrm flipH="1">
                <a:off x="864072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401" name="Chevron 12"/>
              <p:cNvSpPr/>
              <p:nvPr/>
            </p:nvSpPr>
            <p:spPr>
              <a:xfrm flipH="1">
                <a:off x="8767080" y="657180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402" name="Chevron 13"/>
              <p:cNvSpPr/>
              <p:nvPr/>
            </p:nvSpPr>
            <p:spPr>
              <a:xfrm flipH="1">
                <a:off x="889416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2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3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4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C0CE-1F7F-4569-B991-FC98DC56F0DA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445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446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447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448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9" name=""/>
                <p:cNvSpPr/>
                <p:nvPr/>
              </p:nvSpPr>
              <p:spPr>
                <a:xfrm>
                  <a:off x="5760" y="67122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450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451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2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453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454" name="Chevron 11"/>
              <p:cNvSpPr/>
              <p:nvPr/>
            </p:nvSpPr>
            <p:spPr>
              <a:xfrm flipH="1">
                <a:off x="864072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455" name="Chevron 12"/>
              <p:cNvSpPr/>
              <p:nvPr/>
            </p:nvSpPr>
            <p:spPr>
              <a:xfrm flipH="1">
                <a:off x="8767080" y="657180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456" name="Chevron 13"/>
              <p:cNvSpPr/>
              <p:nvPr/>
            </p:nvSpPr>
            <p:spPr>
              <a:xfrm flipH="1">
                <a:off x="889416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grpSp>
        <p:nvGrpSpPr>
          <p:cNvPr id="457" name="Group 6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458" name="Chevron 7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59" name="Rectangle 8"/>
            <p:cNvSpPr/>
            <p:nvPr/>
          </p:nvSpPr>
          <p:spPr>
            <a:xfrm>
              <a:off x="2208240" y="1395360"/>
              <a:ext cx="6428880" cy="1800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5025-1332-42EE-8AAA-6F40DCCA052F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gwiikurs-ikt.wikispaces.com/" TargetMode="External"/><Relationship Id="rId2" Type="http://schemas.openxmlformats.org/officeDocument/2006/relationships/image" Target="../media/image16.png"/><Relationship Id="rId3" Type="http://schemas.openxmlformats.org/officeDocument/2006/relationships/hyperlink" Target="http://ingwiikurs-ikt.wikispaces.com/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hyperlink" Target="http://www.vgskole.net/teachers/norsk/generelt/blogging.php" TargetMode="External"/><Relationship Id="rId5" Type="http://schemas.openxmlformats.org/officeDocument/2006/relationships/hyperlink" Target="http://leifh.blogspot.com/" TargetMode="External"/><Relationship Id="rId6" Type="http://schemas.openxmlformats.org/officeDocument/2006/relationships/hyperlink" Target="http://tanketraader-ingunn.blogspot.com/" TargetMode="External"/><Relationship Id="rId7" Type="http://schemas.openxmlformats.org/officeDocument/2006/relationships/hyperlink" Target="http://lektoraksnes.blogspot.com/" TargetMode="External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spindellett.net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jeanetteskreativeutbrudd.blogspot.com/" TargetMode="External"/><Relationship Id="rId2" Type="http://schemas.openxmlformats.org/officeDocument/2006/relationships/hyperlink" Target="http://jeanetteskreativeutbrudd.blogspot.com/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ersonalizemedia.com/garys-social-media-count/" TargetMode="External"/><Relationship Id="rId2" Type="http://schemas.openxmlformats.org/officeDocument/2006/relationships/hyperlink" Target="http://www.personalizemedia.com/garys-social-media-count/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uninettabc.no/content.ap?thisId=11560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Tittel 1" descr=""/>
          <p:cNvPicPr/>
          <p:nvPr/>
        </p:nvPicPr>
        <p:blipFill>
          <a:blip r:embed="rId1"/>
          <a:stretch/>
        </p:blipFill>
        <p:spPr>
          <a:xfrm>
            <a:off x="682560" y="1852560"/>
            <a:ext cx="8077320" cy="148104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206208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898989"/>
                </a:solidFill>
                <a:latin typeface="Cambria"/>
              </a:rPr>
              <a:t>- og noen norskblogger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1000080" y="357120"/>
            <a:ext cx="7105680" cy="1314360"/>
          </a:xfrm>
          <a:prstGeom prst="rect">
            <a:avLst/>
          </a:prstGeom>
          <a:ln w="0">
            <a:noFill/>
          </a:ln>
        </p:spPr>
      </p:pic>
      <p:sp>
        <p:nvSpPr>
          <p:cNvPr id="519" name="Rektangel 2"/>
          <p:cNvSpPr/>
          <p:nvPr/>
        </p:nvSpPr>
        <p:spPr>
          <a:xfrm>
            <a:off x="1185480" y="107172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ffffff"/>
                </a:solidFill>
                <a:latin typeface="Arial"/>
                <a:ea typeface="Arial"/>
              </a:rPr>
              <a:t>Hvordan bruke blogg i undervisningen?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0" name="Rektangel 3"/>
          <p:cNvSpPr/>
          <p:nvPr/>
        </p:nvSpPr>
        <p:spPr>
          <a:xfrm>
            <a:off x="1000080" y="1857240"/>
            <a:ext cx="7286760" cy="45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Cambria"/>
              </a:rPr>
              <a:t>Blogg kan brukes i alle fag og på alle nivåer. Det mest vanlige er at en klasse jobber med blogg gjennom ett eller flere skoleår. </a:t>
            </a:r>
            <a:r>
              <a:rPr b="0" lang="nb-NO" sz="1400" spc="-1" strike="noStrike">
                <a:solidFill>
                  <a:srgbClr val="996699"/>
                </a:solidFill>
                <a:latin typeface="Cambria"/>
              </a:rPr>
              <a:t>Hvis målet er at elevene skal bli bedre skribenter, gir bloggen mulighet for jevnlig skriving med mindre skriveoppgaver. </a:t>
            </a:r>
            <a:r>
              <a:rPr b="0" lang="nb-NO" sz="1400" spc="-1" strike="noStrike">
                <a:solidFill>
                  <a:srgbClr val="000000"/>
                </a:solidFill>
                <a:latin typeface="Cambria"/>
              </a:rPr>
              <a:t>Du kan poste oppgaven på lærerbloggen og be elevene poste sine svar på egne blogger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996699"/>
                </a:solidFill>
                <a:latin typeface="Cambria"/>
              </a:rPr>
              <a:t>På barnetrinnet kan det som nevnt være mest aktuelt å ha én klasseblogg som elevene kan bidra til ved å sende e-post til læreren eller rett til bloggen. </a:t>
            </a:r>
            <a:r>
              <a:rPr b="0" lang="nb-NO" sz="1400" spc="-1" strike="noStrike">
                <a:solidFill>
                  <a:srgbClr val="000000"/>
                </a:solidFill>
                <a:latin typeface="Cambria"/>
              </a:rPr>
              <a:t>Her kan man også invitere inn andre til å skrive, for eksempel fagfolk eller profiler fra lokalsamfunnet. En prosjektoppgave om lokalhistorie kan utdypes med innlegg fra folk i nærmiljøet. Om de ikke har mulighet til å skrive innleggene selv, kan elevene utstyres med en lydopptaker eller et enkelt videokamera og så intervjue den aktuelle personen. Resultatet kan postes på klassebloggen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996699"/>
                </a:solidFill>
                <a:latin typeface="Cambria"/>
              </a:rPr>
              <a:t>Blogging egner seg godt til å publisere og reflektere rundt egne digitale arbeider. </a:t>
            </a:r>
            <a:r>
              <a:rPr b="0" lang="nb-NO" sz="1400" spc="-1" strike="noStrike">
                <a:solidFill>
                  <a:srgbClr val="000000"/>
                </a:solidFill>
                <a:latin typeface="Cambria"/>
              </a:rPr>
              <a:t>Mange lærere bruker derfor blogg i formgivningsfag. </a:t>
            </a:r>
            <a:r>
              <a:rPr b="0" lang="nb-NO" sz="1400" spc="-1" strike="noStrike">
                <a:solidFill>
                  <a:srgbClr val="996699"/>
                </a:solidFill>
                <a:latin typeface="Cambria"/>
              </a:rPr>
              <a:t>Elevene tar egne bilder, lager montasjer eller annet.</a:t>
            </a:r>
            <a:r>
              <a:rPr b="0" lang="nb-NO" sz="1400" spc="-1" strike="noStrike">
                <a:solidFill>
                  <a:srgbClr val="000000"/>
                </a:solidFill>
                <a:latin typeface="Cambria"/>
              </a:rPr>
              <a:t> Et blogginnlegg inneholder det digitale produktet og en tekst som beskriver valgene elevene har gjort i prosessen med å lage produktet. Bloggen blir elevens portefølje. Hver elev kan selv merke sine beste arbeider med for eksempel "utvalgte", og bloggen kan dermed brukes for mappevurdering. I et eget blogginnlegg kan eleven reflektere rundt utvalget hun eller han har gjort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Cambria"/>
              </a:rPr>
              <a:t>(Fra Blogg i undervisningen, Uninett ABC)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2" descr=""/>
          <p:cNvPicPr/>
          <p:nvPr/>
        </p:nvPicPr>
        <p:blipFill>
          <a:blip r:embed="rId1"/>
          <a:stretch/>
        </p:blipFill>
        <p:spPr>
          <a:xfrm>
            <a:off x="1976400" y="2205000"/>
            <a:ext cx="5191200" cy="2448000"/>
          </a:xfrm>
          <a:prstGeom prst="rect">
            <a:avLst/>
          </a:prstGeom>
          <a:ln w="0">
            <a:noFill/>
          </a:ln>
        </p:spPr>
      </p:pic>
      <p:sp>
        <p:nvSpPr>
          <p:cNvPr id="522" name="TekstSylinder 2"/>
          <p:cNvSpPr/>
          <p:nvPr/>
        </p:nvSpPr>
        <p:spPr>
          <a:xfrm>
            <a:off x="1285920" y="5286240"/>
            <a:ext cx="65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Cambria"/>
              </a:rPr>
              <a:t>Fra Ingunn Kjøl Wiigs forslag til vurderingskriterier for blogger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71720" y="857160"/>
            <a:ext cx="5886360" cy="4810320"/>
          </a:xfrm>
          <a:prstGeom prst="rect">
            <a:avLst/>
          </a:prstGeom>
          <a:ln w="0">
            <a:noFill/>
          </a:ln>
        </p:spPr>
      </p:pic>
      <p:sp>
        <p:nvSpPr>
          <p:cNvPr id="524" name="Rektangel 2"/>
          <p:cNvSpPr/>
          <p:nvPr/>
        </p:nvSpPr>
        <p:spPr>
          <a:xfrm>
            <a:off x="1656000" y="5857920"/>
            <a:ext cx="38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 u="sng">
                <a:solidFill>
                  <a:srgbClr val="e78707"/>
                </a:solidFill>
                <a:uFillTx/>
                <a:latin typeface="Cambria"/>
                <a:hlinkClick r:id="rId3"/>
              </a:rPr>
              <a:t>http://ingwiikurs-ikt.wikispaces.com/</a:t>
            </a:r>
            <a:r>
              <a:rPr b="0" lang="nb-NO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5" descr="http://bp3.blogger.com/_QJAPy-AW_Lg/RyTZBS9gocI/AAAAAAAAABE/IGCp0F0R-ls/s400/039+-+Kopi.JPG"/>
          <p:cNvPicPr/>
          <p:nvPr/>
        </p:nvPicPr>
        <p:blipFill>
          <a:blip r:embed="rId1"/>
          <a:stretch/>
        </p:blipFill>
        <p:spPr>
          <a:xfrm>
            <a:off x="7429680" y="4572000"/>
            <a:ext cx="1214280" cy="11764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9" descr="http://www.universitetsforlaget.no/imageResize?marketplaceId=200&amp;languageId=1&amp;contentItemId=15757462&amp;width=150"/>
          <p:cNvPicPr/>
          <p:nvPr/>
        </p:nvPicPr>
        <p:blipFill>
          <a:blip r:embed="rId2"/>
          <a:stretch/>
        </p:blipFill>
        <p:spPr>
          <a:xfrm>
            <a:off x="5908680" y="4572000"/>
            <a:ext cx="936720" cy="114300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7" descr="http://www.hibo.no/neted/upload/img/1107425355.pjpeg"/>
          <p:cNvPicPr/>
          <p:nvPr/>
        </p:nvPicPr>
        <p:blipFill>
          <a:blip r:embed="rId3"/>
          <a:stretch/>
        </p:blipFill>
        <p:spPr>
          <a:xfrm>
            <a:off x="4378320" y="4572000"/>
            <a:ext cx="836640" cy="1143000"/>
          </a:xfrm>
          <a:prstGeom prst="rect">
            <a:avLst/>
          </a:prstGeom>
          <a:ln w="0">
            <a:noFill/>
          </a:ln>
        </p:spPr>
      </p:pic>
      <p:sp>
        <p:nvSpPr>
          <p:cNvPr id="528" name="TekstSylinder 1"/>
          <p:cNvSpPr/>
          <p:nvPr/>
        </p:nvSpPr>
        <p:spPr>
          <a:xfrm>
            <a:off x="3000240" y="71424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Cambria"/>
              </a:rPr>
              <a:t>Norskblogg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9" name="TekstSylinder 2"/>
          <p:cNvSpPr/>
          <p:nvPr/>
        </p:nvSpPr>
        <p:spPr>
          <a:xfrm>
            <a:off x="571680" y="1285920"/>
            <a:ext cx="77864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 u="sng">
                <a:solidFill>
                  <a:srgbClr val="e78707"/>
                </a:solidFill>
                <a:uFillTx/>
                <a:latin typeface="Cambria"/>
                <a:hlinkClick r:id="rId4"/>
              </a:rPr>
              <a:t>To blog or not to blog</a:t>
            </a:r>
            <a:r>
              <a:rPr b="0" lang="nb-NO" sz="1600" spc="-1" strike="noStrike">
                <a:solidFill>
                  <a:srgbClr val="000000"/>
                </a:solidFill>
                <a:latin typeface="Cambria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Cambria"/>
              </a:rPr>
              <a:t>Norsklærer med digitalt grensesnitt (Leif Harboe):</a:t>
            </a:r>
            <a:br>
              <a:rPr sz="1600"/>
            </a:br>
            <a:r>
              <a:rPr b="0" lang="nb-NO" sz="1600" spc="-1" strike="noStrike" u="sng">
                <a:solidFill>
                  <a:srgbClr val="e78707"/>
                </a:solidFill>
                <a:uFillTx/>
                <a:latin typeface="Cambria"/>
                <a:hlinkClick r:id="rId5"/>
              </a:rPr>
              <a:t>http://leifh.blogspot.com/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Cambria"/>
              </a:rPr>
              <a:t>Tanketråder – fra en lektors hverdag (Ingunn Kjøl Wiig):</a:t>
            </a:r>
            <a:br>
              <a:rPr sz="1600"/>
            </a:br>
            <a:r>
              <a:rPr b="0" lang="nb-NO" sz="1600" spc="-1" strike="noStrike" u="sng">
                <a:solidFill>
                  <a:srgbClr val="e78707"/>
                </a:solidFill>
                <a:uFillTx/>
                <a:latin typeface="Cambria"/>
                <a:hlinkClick r:id="rId6"/>
              </a:rPr>
              <a:t>http://tanketraader-ingunn.blogspot.com/</a:t>
            </a:r>
            <a:r>
              <a:rPr b="0" lang="nb-NO" sz="1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Cambria"/>
              </a:rPr>
              <a:t>Lektor Aksnes’ skoleblogg (Marita Aksnes):</a:t>
            </a:r>
            <a:br>
              <a:rPr sz="1600"/>
            </a:br>
            <a:r>
              <a:rPr b="0" lang="nb-NO" sz="1600" spc="-1" strike="noStrike" u="sng">
                <a:solidFill>
                  <a:srgbClr val="e78707"/>
                </a:solidFill>
                <a:uFillTx/>
                <a:latin typeface="Cambria"/>
                <a:hlinkClick r:id="rId7"/>
              </a:rPr>
              <a:t>http://lektoraksnes.blogspot.com/</a:t>
            </a:r>
            <a:r>
              <a:rPr b="0" lang="nb-NO" sz="1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Cambria"/>
              </a:rPr>
              <a:t>Digitale tekster i Buskerud (Marita Aksnes): http://buskerudblogg.blogspot.com/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Cambria"/>
              </a:rPr>
              <a:t>IKT i norsk (Thomas):</a:t>
            </a:r>
            <a:br>
              <a:rPr sz="1600"/>
            </a:br>
            <a:r>
              <a:rPr b="0" lang="nb-NO" sz="1600" spc="-1" strike="noStrike">
                <a:solidFill>
                  <a:srgbClr val="000000"/>
                </a:solidFill>
                <a:latin typeface="Cambria"/>
              </a:rPr>
              <a:t>http://iktinorsk.blogspot.com/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Cambria"/>
              </a:rPr>
              <a:t>LNU oversikt norskblogger: http://www.norskundervisning.no/index.php?option=com_weblinks&amp;view=category&amp;id=10&amp;Itemid=3  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30" name="Picture 2" descr=""/>
          <p:cNvPicPr/>
          <p:nvPr/>
        </p:nvPicPr>
        <p:blipFill>
          <a:blip r:embed="rId8"/>
          <a:stretch/>
        </p:blipFill>
        <p:spPr>
          <a:xfrm>
            <a:off x="6786720" y="714240"/>
            <a:ext cx="1895400" cy="202896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3" descr=""/>
          <p:cNvPicPr/>
          <p:nvPr/>
        </p:nvPicPr>
        <p:blipFill>
          <a:blip r:embed="rId9"/>
          <a:stretch/>
        </p:blipFill>
        <p:spPr>
          <a:xfrm>
            <a:off x="7358040" y="2928960"/>
            <a:ext cx="133344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kstSylinder 1"/>
          <p:cNvSpPr/>
          <p:nvPr/>
        </p:nvSpPr>
        <p:spPr>
          <a:xfrm>
            <a:off x="2000160" y="5715000"/>
            <a:ext cx="55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Cambria"/>
              </a:rPr>
              <a:t>Del og bruk, d &amp; b, Del det du har, bruk det du får:</a:t>
            </a:r>
            <a:br>
              <a:rPr sz="1800"/>
            </a:br>
            <a:r>
              <a:rPr b="0" lang="nb-NO" sz="1800" spc="-1" strike="noStrike">
                <a:solidFill>
                  <a:srgbClr val="000000"/>
                </a:solidFill>
                <a:latin typeface="Cambria"/>
              </a:rPr>
              <a:t> http://delogbruk.ning.com/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33" name="Picture 3" descr=""/>
          <p:cNvPicPr/>
          <p:nvPr/>
        </p:nvPicPr>
        <p:blipFill>
          <a:blip r:embed="rId1"/>
          <a:stretch/>
        </p:blipFill>
        <p:spPr>
          <a:xfrm>
            <a:off x="1500120" y="500040"/>
            <a:ext cx="6053040" cy="51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kstSylinder 1"/>
          <p:cNvSpPr/>
          <p:nvPr/>
        </p:nvSpPr>
        <p:spPr>
          <a:xfrm>
            <a:off x="1428840" y="785880"/>
            <a:ext cx="621504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Cambria"/>
              </a:rPr>
              <a:t>Bloggoppgav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Cambria"/>
              </a:rPr>
              <a:t>Lag et innlegg/en post om våren med minst ett vårbilde du selv har tatt, ledsaget av din egen vårlige tekst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Cambria"/>
              </a:rPr>
              <a:t>Skriv et dikt som du poster i bloggen din – med bilde tatt og behandlet av deg selv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Cambria"/>
              </a:rPr>
              <a:t>Publiser ei Photo Story-fortelling i bloggen din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3" descr=""/>
          <p:cNvPicPr/>
          <p:nvPr/>
        </p:nvPicPr>
        <p:blipFill>
          <a:blip r:embed="rId1"/>
          <a:stretch/>
        </p:blipFill>
        <p:spPr>
          <a:xfrm>
            <a:off x="1733400" y="2724120"/>
            <a:ext cx="56772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"/>
          <p:cNvPicPr/>
          <p:nvPr/>
        </p:nvPicPr>
        <p:blipFill>
          <a:blip r:embed="rId1"/>
          <a:stretch/>
        </p:blipFill>
        <p:spPr>
          <a:xfrm>
            <a:off x="1747800" y="995400"/>
            <a:ext cx="564840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571680" y="357120"/>
            <a:ext cx="5581440" cy="48387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2" descr=""/>
          <p:cNvPicPr/>
          <p:nvPr/>
        </p:nvPicPr>
        <p:blipFill>
          <a:blip r:embed="rId2"/>
          <a:stretch/>
        </p:blipFill>
        <p:spPr>
          <a:xfrm>
            <a:off x="571680" y="4643280"/>
            <a:ext cx="5724360" cy="1124280"/>
          </a:xfrm>
          <a:prstGeom prst="rect">
            <a:avLst/>
          </a:prstGeom>
          <a:ln w="0">
            <a:noFill/>
          </a:ln>
        </p:spPr>
      </p:pic>
      <p:sp>
        <p:nvSpPr>
          <p:cNvPr id="507" name="Rektangel 4"/>
          <p:cNvSpPr/>
          <p:nvPr/>
        </p:nvSpPr>
        <p:spPr>
          <a:xfrm>
            <a:off x="5011200" y="592920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Cambria"/>
              </a:rPr>
              <a:t>Fra bloggen </a:t>
            </a:r>
            <a:r>
              <a:rPr b="0" lang="nb-NO" sz="1800" spc="-1" strike="noStrike" u="sng">
                <a:solidFill>
                  <a:srgbClr val="e78707"/>
                </a:solidFill>
                <a:uFillTx/>
                <a:latin typeface="Cambria"/>
                <a:hlinkClick r:id="rId3"/>
              </a:rPr>
              <a:t>http://spindellett.net/</a:t>
            </a:r>
            <a:r>
              <a:rPr b="0" lang="nb-NO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8" name="TekstSylinder 5"/>
          <p:cNvSpPr/>
          <p:nvPr/>
        </p:nvSpPr>
        <p:spPr>
          <a:xfrm>
            <a:off x="6643800" y="1928880"/>
            <a:ext cx="17859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Calibri"/>
                <a:ea typeface="Calibri"/>
              </a:rPr>
              <a:t>Dette likte jeg. Bildene. Ordspillene. Fortellinga fra din barndoms skole. Jeg kjenner meg igjen. Forventningene. De kjenner jeg på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kstSylinder 1"/>
          <p:cNvSpPr/>
          <p:nvPr/>
        </p:nvSpPr>
        <p:spPr>
          <a:xfrm>
            <a:off x="1357200" y="500040"/>
            <a:ext cx="6572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Cambria"/>
              </a:rPr>
              <a:t>”</a:t>
            </a:r>
            <a:r>
              <a:rPr b="0" lang="nb-NO" sz="1800" spc="-1" strike="noStrike">
                <a:solidFill>
                  <a:srgbClr val="000000"/>
                </a:solidFill>
                <a:latin typeface="Cambria"/>
              </a:rPr>
              <a:t>Jeg ser mye som inspirerer meg, derfor lagde jeg en blogg”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Cambria"/>
              </a:rPr>
              <a:t>Jeanette Landfald Bækkevold: </a:t>
            </a:r>
            <a:r>
              <a:rPr b="0" lang="nb-NO" sz="1200" spc="-1" strike="noStrike" u="sng">
                <a:solidFill>
                  <a:srgbClr val="e78707"/>
                </a:solidFill>
                <a:uFillTx/>
                <a:latin typeface="Cambria"/>
                <a:hlinkClick r:id="rId1"/>
              </a:rPr>
              <a:t>http://jeanetteskreativeutbrudd.blogspot.com/</a:t>
            </a:r>
            <a:r>
              <a:rPr b="0" lang="nb-NO" sz="1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0" name="TekstSylinder 2"/>
          <p:cNvSpPr/>
          <p:nvPr/>
        </p:nvSpPr>
        <p:spPr>
          <a:xfrm>
            <a:off x="1643040" y="5715000"/>
            <a:ext cx="67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Cambria"/>
              </a:rPr>
              <a:t>Vær positiv. Sosiale medier handler mye om å dele og trekke hverandre opp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11" name="Picture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85920" y="1143000"/>
            <a:ext cx="664848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ktangel 3"/>
          <p:cNvSpPr/>
          <p:nvPr/>
        </p:nvSpPr>
        <p:spPr>
          <a:xfrm>
            <a:off x="1071720" y="5929200"/>
            <a:ext cx="65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 u="sng">
                <a:solidFill>
                  <a:srgbClr val="e78707"/>
                </a:solidFill>
                <a:uFillTx/>
                <a:latin typeface="Cambria"/>
                <a:hlinkClick r:id="rId1"/>
              </a:rPr>
              <a:t>http://www.personalizemedia.com/garys-social-media-count/</a:t>
            </a:r>
            <a:r>
              <a:rPr b="0" lang="nb-NO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13" name="Picture 3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5880" y="428760"/>
            <a:ext cx="496728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3" descr=""/>
          <p:cNvPicPr/>
          <p:nvPr/>
        </p:nvPicPr>
        <p:blipFill>
          <a:blip r:embed="rId1"/>
          <a:stretch/>
        </p:blipFill>
        <p:spPr>
          <a:xfrm>
            <a:off x="447840" y="576360"/>
            <a:ext cx="824832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9720" y="876240"/>
            <a:ext cx="7324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ktangel 2"/>
          <p:cNvSpPr/>
          <p:nvPr/>
        </p:nvSpPr>
        <p:spPr>
          <a:xfrm>
            <a:off x="1071720" y="1785960"/>
            <a:ext cx="7215120" cy="41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996699"/>
                </a:solidFill>
                <a:latin typeface="Cambria"/>
              </a:rPr>
              <a:t>Blogg egner seg godt til å produsere sammensatte tekster med lenker, bilder og videoer. Elevene må søke etter ressurser og nettsider, sette inn disse i bloggen og legge inn riktige kildehenvisninger. På den måten utvikler de informasjonskompetanse og digital kompetanse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996699"/>
                </a:solidFill>
                <a:latin typeface="Cambria"/>
              </a:rPr>
              <a:t>Blogging er også god skrivetrening. Skriftlig fremstilling er en av fem grunnleggende ferdigheter elevene skal lære. Med blogging over tid får elevene mulighet til å utvikle seg som skribenter og finne sin stemme.</a:t>
            </a:r>
            <a:r>
              <a:rPr b="0" lang="nb-NO" sz="1600" spc="-1" strike="noStrike">
                <a:solidFill>
                  <a:srgbClr val="000000"/>
                </a:solidFill>
                <a:latin typeface="Cambria"/>
              </a:rPr>
              <a:t> De kan ta i bruk et nytt vokabular og forme egne meninger. Ved hjelp av kommentarfunksjonen i bloggen kan elevene få tilbakemeldinger fra hverandre eller potensielt fra hele verden, hvis bloggen er åpen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996699"/>
                </a:solidFill>
                <a:latin typeface="Cambria"/>
              </a:rPr>
              <a:t>Åpne blogger gjør at elevene får skrive for et ekte publikum og ikke bare for læreren. Det gir skrivingen autentisitet og arbeidslivsrelevans. </a:t>
            </a:r>
            <a:r>
              <a:rPr b="0" lang="nb-NO" sz="1600" spc="-1" strike="noStrike">
                <a:solidFill>
                  <a:srgbClr val="000000"/>
                </a:solidFill>
                <a:latin typeface="Cambria"/>
              </a:rPr>
              <a:t>Åpne blogger gjør også at man kan samarbeid på tvers av skoler, for eksempel med en blogg-vennskapsklasse på en annen skole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Cambria"/>
              </a:rPr>
              <a:t>(Fra Blogg i undervisningen, Uninett ABC)</a:t>
            </a:r>
            <a:r>
              <a:rPr b="0" lang="nb-NO" sz="12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17" name="Picture 2" descr=""/>
          <p:cNvPicPr/>
          <p:nvPr/>
        </p:nvPicPr>
        <p:blipFill>
          <a:blip r:embed="rId1"/>
          <a:stretch/>
        </p:blipFill>
        <p:spPr>
          <a:xfrm>
            <a:off x="1143000" y="214200"/>
            <a:ext cx="708660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54:35Z</dcterms:created>
  <dc:creator>seni</dc:creator>
  <dc:description/>
  <dc:language>en-US</dc:language>
  <cp:lastModifiedBy>seni</cp:lastModifiedBy>
  <dcterms:modified xsi:type="dcterms:W3CDTF">2010-04-20T18:47:15Z</dcterms:modified>
  <cp:revision>98</cp:revision>
  <dc:subject/>
  <dc:title>Blogging i norskfaget</dc:title>
</cp:coreProperties>
</file>